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57B-AB2B-4AC2-B67B-75FD6974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3BF-5AE0-4068-839B-CE1727DE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AB5-B679-4B97-B5A1-F1E61B43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F22-4549-43F7-801A-8AA16810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A928-825D-4214-B361-E4A2ECDB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1AAB-3CFA-44DA-A958-613E4ED3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5F81-481B-471A-B334-A4A2EA24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EDA2-8B26-4544-8451-B47C2FFA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E360-9F7D-4055-9D0B-1561449A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2490-1D26-4E07-A2B3-53281945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AAB2-9EB4-4620-8155-A67AF2D2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D82-DA2F-4558-8842-4B7E1666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9937-3EAF-44BD-8E5E-AD842C09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AE6C-FD2F-4D8E-96B7-6B7AE06F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EC81-429E-4326-9E5A-D6959DF1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26FF-AC7A-4E95-BF3C-60F1E1CB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BE49-BEEB-41EF-B33B-D6696B66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B2D-18D4-4D0D-86DB-AD2EEBBE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74F-6265-4BDA-ABFA-BA0B9EE7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046-D862-4038-BB37-48DAD649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758-DF57-40A9-BAE9-472DBA52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0D0-9AB2-4BBB-AD41-6A904387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5B0-843E-4EC1-9F35-64384BCB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F9E-3DCD-42FA-BDDB-3FADC3C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88CD-3F5B-4BB3-B17E-90A0DDE24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4F08-A787-4EC2-88EF-1B0A14B3D4F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ct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ct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32000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Order of         Operation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66680" y="3886200"/>
          <a:ext cx="527544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52754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60360" y="380880"/>
          <a:ext cx="5112000" cy="26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0360" y="380880"/>
                    <a:ext cx="51120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90720" y="4495680"/>
          <a:ext cx="667692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495680"/>
                    <a:ext cx="66769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371600" y="1143000"/>
          <a:ext cx="6019920" cy="9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143000"/>
                    <a:ext cx="601992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85920" y="3683160"/>
          <a:ext cx="4286160" cy="26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683160"/>
                    <a:ext cx="428616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71560" y="4680"/>
          <a:ext cx="6100920" cy="25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4680"/>
                    <a:ext cx="610092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6680" y="4267080"/>
          <a:ext cx="684072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67080"/>
                    <a:ext cx="684072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81080" y="838080"/>
          <a:ext cx="461808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838080"/>
                    <a:ext cx="46180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371600" y="762120"/>
          <a:ext cx="479592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479592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420920" y="254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3809880"/>
          <a:ext cx="4797720" cy="25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809880"/>
                    <a:ext cx="479772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030400" y="487440"/>
          <a:ext cx="247320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87440"/>
                    <a:ext cx="24732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538280" y="3884760"/>
          <a:ext cx="362736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8280" y="3884760"/>
                    <a:ext cx="36273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85800" y="3809880"/>
          <a:ext cx="5187960" cy="10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9880"/>
                    <a:ext cx="518796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143000" y="609480"/>
          <a:ext cx="3546360" cy="9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609480"/>
                    <a:ext cx="35463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3886200"/>
          <a:ext cx="51102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86200"/>
                    <a:ext cx="51102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01640" y="376200"/>
          <a:ext cx="560700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76200"/>
                    <a:ext cx="56070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90560" y="4535640"/>
          <a:ext cx="527544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4535640"/>
                    <a:ext cx="527544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12920" y="374760"/>
          <a:ext cx="618480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920" y="374760"/>
                    <a:ext cx="61848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61596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6159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96920" y="609480"/>
          <a:ext cx="544212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6920" y="609480"/>
                    <a:ext cx="5442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30040" y="4384800"/>
          <a:ext cx="758196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384800"/>
                    <a:ext cx="75819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8480" y="919080"/>
          <a:ext cx="610092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919080"/>
                    <a:ext cx="6100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4114800"/>
          <a:ext cx="7499520" cy="13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749952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880" y="1143000"/>
          <a:ext cx="742176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143000"/>
                    <a:ext cx="74217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1:13:41Z</dcterms:created>
  <dc:creator>PA Department of Education</dc:creator>
  <dc:description/>
  <dc:language>en-US</dc:language>
  <cp:lastModifiedBy>Parkland High School</cp:lastModifiedBy>
  <dcterms:modified xsi:type="dcterms:W3CDTF">2010-09-07T17:06:34Z</dcterms:modified>
  <cp:revision>25</cp:revision>
  <dc:subject/>
  <dc:title>Language of Algebra </dc:title>
</cp:coreProperties>
</file>